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Apresentação personalizada 1" id="0">
      <p:sldLst>
        <p:sld r:id="rId4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27D-E911-4EC0-8038-B628A3B4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833-73F8-4DD4-BD27-A0371D0D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220-E8A2-4E2A-A408-7E9F525B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FFF-5C07-4DAF-83B7-9DA79D00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5905-3DC5-4C07-8100-23120D8B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B909-41DB-43F0-BA4B-6BA1E9B2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B4DB-593C-4615-B313-F5C0AF6F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1894-347C-4489-97C1-8534D152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1E10-BFA3-4F78-871C-6C94995F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6647-4F08-44A4-8173-190982CC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803E-6647-4AED-A105-747EB04C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00D-2B8D-40E5-92A0-E6E705DF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3A5B-5C5C-4C01-BA60-CFD76452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1A50-30E4-41B3-A482-C4000DDE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AD61-F1E1-4C2C-BFFC-BDAB3340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B50A-A5B7-47A8-86D1-38F521BB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73D0-A419-4C54-8B5E-D260AC15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59F-A4D7-4100-9ADC-92D35AB5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6E2-3E14-456D-9B80-F9858BAD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FDD-251E-42B2-BA7B-1F299C5D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494-BC08-4FCB-8566-F5620F26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90D-7E5F-45BE-8AAC-6F80B5EC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57B-0E69-4EFF-92AC-BC00778F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58E-5223-4B4F-8A27-A9BFE67A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962C-93ED-404A-B673-85FB4C296D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AA36-C65B-4D03-AAEF-A2E67344366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rabalho de Inteligência computacional para otimizaçã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515736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onardo Xavier T. Cardos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4/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887480" y="1936800"/>
            <a:ext cx="58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635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ma Metaheurística híbrida baseada em Grasp e Busca Tabu aplicada ao proble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 programação da tripulação (PPT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2 Estrutura de vizinhanç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96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 Algoritmo híbrido propos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31640" y="1484280"/>
            <a:ext cx="64198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rocedimento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Grasp + Busca Tabu(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f* 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</a:rPr>
              <a:t>para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(Iter = 1,2,...,Graspmax)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</a:rPr>
              <a:t>faç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Gerar solução inicial via Grasp (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BuscaLocal com Busca Tabu(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</a:rPr>
              <a:t>se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(f(s) &lt; f*)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</a:rPr>
              <a:t>entã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s* 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s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i="1" lang="pt-BR" sz="2000" spc="-1" strike="noStrike">
                <a:solidFill>
                  <a:srgbClr val="ffffff"/>
                </a:solidFill>
                <a:latin typeface="Verdana"/>
              </a:rPr>
              <a:t>f*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f(s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</a:rPr>
              <a:t>fim-se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</a:rPr>
              <a:t>fim-para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s* 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s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Retorne </a:t>
            </a:r>
            <a:r>
              <a:rPr b="0" i="1" lang="pt-BR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fim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Grasp+Busca Tabu</a:t>
            </a:r>
            <a:r>
              <a:rPr b="0" i="1" lang="pt-BR" sz="24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5.1 Grasp na geração de uma solucao inicial</a:t>
            </a:r>
            <a:br>
              <a:rPr sz="2800"/>
            </a:b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ccecff"/>
                </a:solidFill>
                <a:latin typeface="Arial"/>
              </a:rPr>
              <a:t>Configuração Inicia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201080" cy="51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- Configuração Fina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7756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5.2 Busca Tabu Aplicado ao PP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2.1 A Lista Tab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.2.1.1 Movimento Tab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Tripulante Fonte, Tripulante Destino, Tarefa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2.2 Análise da vizinhanç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2.3 Critério de aspir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2.4 Critério de para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68360" y="549360"/>
          <a:ext cx="8229600" cy="5454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ela de execuçã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or Ini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or Fi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ecução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748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138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ecução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246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436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ecução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44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088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ecução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908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333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ecução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1883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5014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é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v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499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501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0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áfico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71640" y="1630440"/>
            <a:ext cx="756108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áfico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71640" y="1630440"/>
            <a:ext cx="73454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66"/>
                </a:solidFill>
                <a:latin typeface="Verdana"/>
              </a:rPr>
              <a:t>FIM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Índice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1 Introduçã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2 Metodolog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2.1 Descrição do probl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3 A Função objeti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i) Requisitos essencia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ii)Requisitos não essencia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4 Modelagem do problema de programação diá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)Taref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i)Tripula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ii)Solução</a:t>
            </a: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5 Algoritmo híbrido propo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5.1 Grasp na geração de uma solucao inic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5.2 Busca Tabu Aplicado ao PP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 Introduç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2 Objetivos do Trabalh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3 Importância do Trabalh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 Metodolog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1 Descrição do probl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1.1 Programação diária da tripul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A função Objeti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) Requisitos essenciai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obreposição de Tarefa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b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Troca de Pontos Proibid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c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Horas Excedent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d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Folga Acumulada Deficient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e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Tempo entre jornada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f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Troca de Linha Proibid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A função Objeti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) Requisitos não essenciai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uplas Pegada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b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Horas Extra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c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Troca de Pontos Permitid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d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Troca de Veícul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e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úmero de Tripulant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(f) Ociosida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g)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Troca de Linha Permitid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 Modelagem do problema de programação diár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.1 Representa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) Taref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46520" y="2133720"/>
            <a:ext cx="4387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53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</a:rPr>
              <a:t>4.1 Representaçã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) Tripul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832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i) Solu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8:03:52Z</dcterms:created>
  <dc:creator>Leonardo Xavier T. Cardoso</dc:creator>
  <dc:description/>
  <dc:language>en-US</dc:language>
  <cp:lastModifiedBy>Leonardo Xavier T. Cardoso</cp:lastModifiedBy>
  <dcterms:modified xsi:type="dcterms:W3CDTF">2003-02-14T11:29:36Z</dcterms:modified>
  <cp:revision>17</cp:revision>
  <dc:subject/>
  <dc:title>Trabalho de Inteligência computacional para otimização</dc:title>
</cp:coreProperties>
</file>